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60F-B1A7-4CE7-B504-8DFBB47B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4E1-2E5F-4E7F-809A-B2EB6366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3E8-5F2F-444C-A846-1717A6A0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F60-6756-4C85-ADDC-BCC534BC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9F0-86A5-424F-BFFC-8D91E56F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ABD-14B5-4AF7-AA8A-60E0731B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D40-88D3-47B3-AA49-42E6A009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B2A-90FE-459B-915F-0C562232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361-5A48-496B-A59D-59BBB048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9A3A-DED7-4556-92B5-940849F9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C40-3BCD-4F0C-B46F-B722F643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6EC-8A11-4AAA-BD37-13DD6748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1A2E-5FE0-4046-9FDC-DE89E07A7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L’enterrement de la mère de Meursaul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Meursault aide Raymond Sintès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avec la lett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La 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bizarre petite fem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Le meurt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L’ea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Le solei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7:40:36Z</dcterms:created>
  <dc:creator>Steve Badger</dc:creator>
  <dc:description/>
  <dc:language>en-US</dc:language>
  <cp:lastModifiedBy>Steve Badger</cp:lastModifiedBy>
  <dcterms:modified xsi:type="dcterms:W3CDTF">2006-08-31T17:40:55Z</dcterms:modified>
  <cp:revision>1</cp:revision>
  <dc:subject/>
  <dc:title>L’enterrement de la mère de Meursault</dc:title>
</cp:coreProperties>
</file>